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A67-58BE-4CAA-864A-6417CE81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6EC-20C6-429E-ACAE-2BB98997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CF3-C66C-4EF7-AEB7-78A2A5CB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63C-3FA6-4B19-8923-83C11BF2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651-987C-4925-A28D-A9881A4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820-00DD-4D66-8BEA-AEC6FE1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22B-9A9B-424F-9329-CE61327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47A-6F3A-477A-BC1F-0A7B377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76B-9509-4BD2-AEC0-295AA078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BFB-5F6C-43DA-9B67-332AB5B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45C-6FD4-4FF4-9EE8-E9A8929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CE4-85F7-4797-8BD1-709469B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67C-3E75-4C7C-ACCB-81830012D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RlY0pZhtao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Nonfiction in K-2 Classr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429000" y="2590920"/>
            <a:ext cx="3581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1676520" cy="147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24080" y="4114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990720" y="4648320"/>
            <a:ext cx="149544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5334120" y="4114800"/>
            <a:ext cx="140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Implement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tart small… what are two strategies you can implement today in your classroo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llaborate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Keep it simple.  You can always build on a concept for the next time ar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at is Nonfi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en a person hears nonfiction they most likely think of a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ever, nonfiction is prose writing based on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3913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Why is Nonfiction Impor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ddresses student’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aturally curious about the world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creases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xpands vocabulary and knowledge on topics through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epares students for la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eaches how to read information, pull out the main idea and supporting detai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art at an Early 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xposing students to nonf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literature in preschool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imary grades will benefit them in their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e video below will discuss some important steps to remember when choosing nonfiction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youtube.com/watch?v=eRlY0pZhta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Strateg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mplementing something new in the classroom usually leads to obsta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ree models for teaching nonfiction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eacher direc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caffold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Independent student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18328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Kindergarten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KWL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 Alou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cholastic, Weekly Reader, Mailbox, Discov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ader's 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Vocabular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Main idea, details, determin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irst and Second Grade Activiti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3-2-1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oz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Idea circles--peer led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Quick w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trategies for Reading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Activities for Classroom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4800" y="220968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Learning Logs- Are used as a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activity and can be a form of communication between the student and teacher. These notebooks record information on a specific topic an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on going throughout the school ye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5800" y="106668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Podcasts- Can be used to learn information on a topic.  Students can gain exposure to technology through the creation of their own podcasts on different top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4038480"/>
            <a:ext cx="3886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ext Features- Are features in a nonfiction book that provide extra details to the reader.  Text features treasure hunts provide students a fun way to recognize text features in a variety of nonfiction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Time to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e are going to read a nonfiction story alou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s we read _____________ think about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You will respond to them in a learning log form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Footlight MT Light"/>
              </a:rPr>
              <a:t>Learning 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y did the author write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did you know befor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How can you connect this to you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was one new thing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What questions do you still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71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3:16:32Z</dcterms:created>
  <dc:creator> </dc:creator>
  <dc:description/>
  <dc:language>en-US</dc:language>
  <cp:lastModifiedBy> </cp:lastModifiedBy>
  <dcterms:modified xsi:type="dcterms:W3CDTF">2011-12-05T02:41:05Z</dcterms:modified>
  <cp:revision>20</cp:revision>
  <dc:subject/>
  <dc:title>Slide 1</dc:title>
</cp:coreProperties>
</file>